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3.png" ContentType="image/png"/>
  <Override PartName="/ppt/media/image26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7.png" ContentType="image/png"/>
  <Override PartName="/ppt/media/image9.png" ContentType="image/png"/>
  <Override PartName="/ppt/media/image30.jpeg" ContentType="image/jpeg"/>
  <Override PartName="/ppt/media/image23.jpeg" ContentType="image/jpeg"/>
  <Override PartName="/ppt/media/image1.jpeg" ContentType="image/jpeg"/>
  <Override PartName="/ppt/media/image10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2.jpeg" ContentType="image/jpeg"/>
  <Override PartName="/ppt/media/image20.png" ContentType="image/png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ED50-3CB9-4B74-9A67-FA88DE76D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FFD5-7ED1-4FE7-AAC3-6BA5E83F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5C741-C0C4-4A47-81BB-0F53FB24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9049C6-30DA-4A0C-B478-AEA023CD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3E920A-FF41-4105-9F5B-CC30AB0D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5462A0-775C-44EE-9A39-DF07F8B3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54879B-56F5-4DBA-B586-D7B76A84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13EE08-879F-4E25-8098-F805F3D4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12732-E577-41DB-A4A0-9C3666A5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45F4A-79A9-4EBD-ACAB-DB150DB6A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E98F85-0E03-4C3B-A36B-5BBBC1015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D60DA5-E3E1-4FBF-9700-B9038CD38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608C-042C-4777-ABA4-E890BDB73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F15D59-9ED4-4A6C-8880-FA4EEE93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FA4733-380E-4EE4-8FC5-4A618D23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F96DDA-3D60-4376-A5E6-149D1EF8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99AA1E-6C0A-4D66-9C14-BE26019E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662992-096B-418B-A6AC-3A6A03FA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83607B-29FE-468D-AD54-1E0E468B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03E88C-31AF-45E7-B2CB-EB306789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83420-6277-418B-9F60-8DD3CE25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3CC46B-B9F0-4485-90DE-FE18843B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C29542-AC3E-4ECE-929F-52E154AE3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D474-3233-4FCD-920C-1911FC53B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FF7F8C-FA65-480F-B17C-CC73FCA72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29BBF3-9580-4EC9-8E09-976EC3CFA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2811D1-67BC-48B7-8A27-19DF4D4D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94CCB-7010-426F-BFA7-C69BDFA6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9FB03-62A7-413C-B604-A3EE24EA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473B0E-E05E-415C-A8D6-5EBA5519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66F2BB-6C07-4850-9C55-CCFB3C2D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6C409-2F3C-48FF-8AFF-43562702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00BE1-ED16-4F42-9E21-44915637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78013B-8492-46A7-9F08-F58C4761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2932-617F-4EA2-8235-3E9DBFE66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DA6DC-B3D0-431F-BD69-CD5D1D17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1BE2B-411B-4F1A-B0A7-963458019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524E00-0518-4EF5-8A35-FD7B9AA72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63AA00-1861-4B36-AAC8-D1066F64B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B49EF9-3C7F-4B50-A99B-74E60B26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4A36BA-2CD8-4B51-BE2C-E14E6D65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6AFFF5-9F5A-4826-B810-9F3AF9432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AE57F7-99F5-43D2-9FDD-DDE0D99E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43F6ED-CE1F-4AB6-972A-AA64DFE0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F1F184-FC55-453B-8FA4-69CD6A2F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9489-AB29-4A6D-9BF4-8BACBD5A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1025D7-9C7F-4EDB-B30B-C35A7338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D5195C-02CF-435F-855A-3F382D2B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5B289F-718A-4024-904C-372D197C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E8BEBD-9792-461A-AFB7-F447746EF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2AFC7D-ABC7-425B-B5F0-E2604EFAE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53848F-9D18-44C1-8288-B857B6431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FCA8F7-AEAE-4AF7-A5AD-90706EA7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CD48BC-394D-4EDB-B744-47EA360E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42FFFE-0742-4DF8-BC3E-9B71A792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6847D7-92DD-49D4-A8BA-A5FF82E3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2FDD-4002-4BCB-9E0E-390E0C98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890EBD-B7A0-4517-9A0C-91C86402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7929D9-7F8F-429B-9B97-91B4227A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0C5E62-2F28-4795-B651-85273B28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9F847B-6C04-4FC6-9A9D-595865BF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FA832A-42A5-443F-921A-773F6F24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85CC6A-9D39-46E3-AA56-C2F79699B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8FDD26-B9BF-402C-ADCE-046AD55DC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AD40A3-19C5-420B-9763-2ECBEA61F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73DFC8-3F1F-4104-9037-1C296A6B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F3095A-7808-4E30-8015-A210E8B6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5ECD-E71E-40A0-90C7-60F579EB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8C6ABB-A6D5-4914-8E1A-B882DB8B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0B9751-F82F-4190-851C-0FCC5124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D6A65E-548A-432A-979B-99790D1A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B2C677-678C-47FD-8FB3-A03F3F5B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518907-CA5D-40F5-85C6-FE2F7913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21D9B9-0A57-44A6-AC60-EC257687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C2478E-AE02-4F99-A09D-93F548C5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CF0C7F-5FB2-439D-8600-36B5AA681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F372D7-7002-4E52-A074-2049D7125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44E7-1466-459D-991F-69DC31A9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F74D-361D-4296-8C38-200FBFA1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63FE7-69E9-40C2-8134-895E5E40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B158-CAE2-410F-965F-5127518C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A4C93-AF20-4F2F-A64A-86FA01C5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D624-86D8-477C-8386-93D4B532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D155-2A7D-46FC-9E3C-946AB6CB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B671-9A60-428E-9314-602777D82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C28F9-B210-4859-9748-A75F38437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79352-7783-4BEF-840D-D860F2227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F37EC-EA26-47DC-A381-881085BA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59CE3-3152-4D38-AC20-80934F06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613C5-458E-4DF2-B5BE-44F3A9B2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6D72D-B15C-4FE3-ACAD-67D755D8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E882-278A-4C57-81A6-16103AE0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13A71-EE54-49AC-AB2A-08E053B8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5EA3C-59B7-4391-AC82-5ABE6622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FB589-F5B1-41D0-8805-9BA622EA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AFDA2-8A44-496E-8CC1-85F4160B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BE316-1394-42FF-BEF7-8EC12B9F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5A0FA-9850-411B-9378-450FD90D7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97814-E9D0-45F3-A58D-2FD7A3E7A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D87AE-84A1-4A24-9D4C-03CEE629C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953C7-DC6D-4866-87F5-A44E5B6F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7A829-EB4B-4218-92B3-2850E7DC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0BE0-352A-4D52-A760-647CE511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0899E-B43E-4313-A576-2453AA19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3903E-92C7-49B7-94B2-FDDB0083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D4EAA-A8EE-4847-930C-AB05D7F3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63DDA-EFF0-4EDB-8535-C90F9A0E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2B234-FB0B-4D6C-BAA3-8ECDB14E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7692F-2475-47B8-A299-5EBC54E5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205E5-DB26-4625-BB12-CFE1EBAA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CC082-45F5-4D88-B707-11A57497B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97B82-3D20-45D9-AF90-DAD33090D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4158E-6067-4ED3-8692-28A9A64B4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8845-113A-4C05-83D6-C3467402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7A9E1-5053-4B6B-A0C9-95CAFCB2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32533-3C25-4BB4-B10D-07391768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69A73-395D-4695-86C3-AF2984CC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8B5C3-A546-4D26-A0E3-0D801A73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63FB8-FCAC-43B2-B9D6-FDE5FFF7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020D3-832D-4FE2-BB2B-FD0CCCCC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2DD76-D1EC-4F2D-B8D3-41454E78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89780-344E-4EF2-8926-2056BB13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1D796-CFDD-49EB-9D65-A061C709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FEEEB-0152-46DA-A19C-903DB53AB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527C-26E1-4F31-A47F-3E2310E5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92C17-1F2A-4064-AED9-E6D3EC54F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88790-43A1-4C94-B8A0-E5756F5E4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188A7-FC1E-4624-86EB-97723BF6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0F6BE-216E-412A-8730-8991A01D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8213F-3133-47A2-A466-CFE02355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7F522-3AC5-4901-A28D-1107BA48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3F6DE-DE46-4B4B-A7F8-9536B3A4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D0871-B645-4D8B-AD65-0C80E9CA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88969-5577-41D0-8B80-3677EF32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A1F47-C488-4250-831E-A79C0B34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B02D-E81C-4ACD-8FA0-0A5492FB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9EE2F-7EEA-44B5-BE04-0C84EB75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D84E6-B314-4A11-BD7D-6A5DB2C0C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4BD6C-30AF-47B1-9E79-E97F05EDF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C37A0-C3FC-4631-B9E7-6BA2DD76C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E071C-0E16-4220-A2F2-F13DD7AC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010A5-12E8-4698-8EF3-C3263611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80C7B-F2B3-4FD2-9A8B-1872C8B4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C3B57-48A2-4F6D-872B-D0426C4C6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A2FBE-42A8-462C-BFF4-E27EDC32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C402A-BCA7-4256-994D-096BC64C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D25E-FB54-4BB5-B3B2-F610B906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FA8BC-75DE-4B0B-BCC0-64FFAE5B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FBD5D-F72B-46D0-9E27-17FA6733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77E5F-E7FE-454F-8AF1-CEB653E3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3A234-2E4E-4B76-AFE4-42B8DD71C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6D3D6-79D5-4B72-A0BB-E79D6C09D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85360-C592-4E00-AEE3-76AAB8886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AA7D9-476F-48E4-9404-1AF84EA1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8B0A4-55AD-429B-8D92-99A8E24E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D803A-7A9B-4671-BCF4-800A2387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EAFD8-2B5B-4912-9A65-1796A57C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6F31-26BE-48AD-8852-A1DC36BA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A0373-F42D-4242-8229-424EA39C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B5DB9-2972-4AB4-9635-75D92BFC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185DB-56C1-454F-843B-7A42F4AD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C7339-8579-4A83-B797-8A0B42E5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47BCD-01C0-4BDC-A4AD-89A9EE59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FEC06-1400-45D1-80D7-11B017FEA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5944C-6EEC-4C57-B56E-F975BABB6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650BC-57AE-4C43-854F-40D9D9EF9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7B59D1-66BC-464D-92E1-D877E821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3A4004-872B-48E7-8B54-38CA018B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5F06-F668-4B23-9FD0-302146E5C0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9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48B9-6FB9-49B9-81D4-B261922E8B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8572-3A9B-4AFB-90BA-DB7AF97BE4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24C3-2E5A-4955-8417-B6268BFDE0D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4B59-3126-4135-B9DA-F1C2E24920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4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4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4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6863-9095-4995-B530-D96FF3F15AB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148C-2269-4576-A73A-436409CAD3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9020-20E8-4151-AC37-B8BA4B33FF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ADF9-081D-4B5E-BA25-5526576372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58E2-5878-42CD-B850-93B74EE4AB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4EF8-05CD-4267-925F-5C97C2CA61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1516-5FA6-4F6F-B891-D5E3C9D888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6674-B41D-40B9-86AF-1BE4AFB518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E339-2BBD-4B55-8976-6139F8B10A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4" descr="река времени"/>
          <p:cNvPicPr/>
          <p:nvPr/>
        </p:nvPicPr>
        <p:blipFill>
          <a:blip r:embed="rId1">
            <a:lum bright="-12000"/>
          </a:blip>
          <a:srcRect l="4724" t="10366" r="7874" b="6695"/>
          <a:stretch/>
        </p:blipFill>
        <p:spPr>
          <a:xfrm>
            <a:off x="1523880" y="0"/>
            <a:ext cx="634392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Rectangle 3"/>
          <p:cNvSpPr/>
          <p:nvPr/>
        </p:nvSpPr>
        <p:spPr>
          <a:xfrm>
            <a:off x="0" y="64904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аких исторических событий начались времена Московского государств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WordArt 2"/>
          <p:cNvSpPr txBox="1"/>
          <p:nvPr/>
        </p:nvSpPr>
        <p:spPr>
          <a:xfrm>
            <a:off x="2743200" y="45720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7" name="Picture 3" descr="krestyanin"/>
          <p:cNvPicPr/>
          <p:nvPr/>
        </p:nvPicPr>
        <p:blipFill>
          <a:blip r:embed="rId3"/>
          <a:stretch/>
        </p:blipFill>
        <p:spPr>
          <a:xfrm>
            <a:off x="1981080" y="1219320"/>
            <a:ext cx="6120000" cy="469404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5"/>
          <p:cNvSpPr/>
          <p:nvPr/>
        </p:nvSpPr>
        <p:spPr>
          <a:xfrm>
            <a:off x="0" y="5693040"/>
            <a:ext cx="3505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Сообщение по плану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 называется групп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жили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Чем занимались люди этой группы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Значение группы для государст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WordArt 2"/>
          <p:cNvSpPr txBox="1"/>
          <p:nvPr/>
        </p:nvSpPr>
        <p:spPr>
          <a:xfrm>
            <a:off x="2209680" y="457200"/>
            <a:ext cx="2971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бояр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0" name="Picture 5" descr="mod67_1_9"/>
          <p:cNvPicPr/>
          <p:nvPr/>
        </p:nvPicPr>
        <p:blipFill>
          <a:blip r:embed="rId3"/>
          <a:stretch/>
        </p:blipFill>
        <p:spPr>
          <a:xfrm>
            <a:off x="228600" y="2286000"/>
            <a:ext cx="4809960" cy="30481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6" descr=""/>
          <p:cNvPicPr/>
          <p:nvPr/>
        </p:nvPicPr>
        <p:blipFill>
          <a:blip r:embed="rId4"/>
          <a:stretch/>
        </p:blipFill>
        <p:spPr>
          <a:xfrm>
            <a:off x="5105520" y="1676520"/>
            <a:ext cx="38811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WordArt 2"/>
          <p:cNvSpPr txBox="1"/>
          <p:nvPr/>
        </p:nvSpPr>
        <p:spPr>
          <a:xfrm>
            <a:off x="2286000" y="380880"/>
            <a:ext cx="417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дворян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3" name="Picture 3" descr="ris014"/>
          <p:cNvPicPr/>
          <p:nvPr/>
        </p:nvPicPr>
        <p:blipFill>
          <a:blip r:embed="rId3"/>
          <a:stretch/>
        </p:blipFill>
        <p:spPr>
          <a:xfrm>
            <a:off x="2286000" y="1495440"/>
            <a:ext cx="398160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0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WordArt 2"/>
          <p:cNvSpPr txBox="1"/>
          <p:nvPr/>
        </p:nvSpPr>
        <p:spPr>
          <a:xfrm>
            <a:off x="2362320" y="53352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ельцы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5" name="Picture 4" descr="strelec2s"/>
          <p:cNvPicPr/>
          <p:nvPr/>
        </p:nvPicPr>
        <p:blipFill>
          <a:blip r:embed="rId3"/>
          <a:stretch/>
        </p:blipFill>
        <p:spPr>
          <a:xfrm>
            <a:off x="4572000" y="1371600"/>
            <a:ext cx="4191120" cy="46324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6" descr=""/>
          <p:cNvPicPr/>
          <p:nvPr/>
        </p:nvPicPr>
        <p:blipFill>
          <a:blip r:embed="rId4"/>
          <a:stretch/>
        </p:blipFill>
        <p:spPr>
          <a:xfrm>
            <a:off x="228600" y="1371600"/>
            <a:ext cx="4176720" cy="4648320"/>
          </a:xfrm>
          <a:prstGeom prst="rect">
            <a:avLst/>
          </a:prstGeom>
          <a:ln w="0">
            <a:noFill/>
          </a:ln>
        </p:spPr>
      </p:pic>
      <p:sp>
        <p:nvSpPr>
          <p:cNvPr id="627" name="Rectangle 6"/>
          <p:cNvSpPr/>
          <p:nvPr/>
        </p:nvSpPr>
        <p:spPr>
          <a:xfrm>
            <a:off x="1872360" y="6475680"/>
            <a:ext cx="53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Какие категории граждан населяли Московское государство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WordArt 2"/>
          <p:cNvSpPr txBox="1"/>
          <p:nvPr/>
        </p:nvSpPr>
        <p:spPr>
          <a:xfrm>
            <a:off x="1371600" y="152280"/>
            <a:ext cx="62485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фрагмент памятника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вану Федорову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9" name="Picture 3" descr="6"/>
          <p:cNvPicPr/>
          <p:nvPr/>
        </p:nvPicPr>
        <p:blipFill>
          <a:blip r:embed="rId5"/>
          <a:stretch/>
        </p:blipFill>
        <p:spPr>
          <a:xfrm>
            <a:off x="1905120" y="1523880"/>
            <a:ext cx="5340240" cy="4500720"/>
          </a:xfrm>
          <a:prstGeom prst="rect">
            <a:avLst/>
          </a:prstGeom>
          <a:ln w="0">
            <a:noFill/>
          </a:ln>
        </p:spPr>
      </p:pic>
      <p:sp>
        <p:nvSpPr>
          <p:cNvPr id="630" name="Rectangle 5"/>
          <p:cNvSpPr/>
          <p:nvPr/>
        </p:nvSpPr>
        <p:spPr>
          <a:xfrm>
            <a:off x="-2160" y="6216840"/>
            <a:ext cx="856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О каком замечательном научном изобретении прочитали? Кому оно принадлежит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Подумайте, какое значение имело для жителей Московского государства начало книгопечатания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WordArt 2"/>
          <p:cNvSpPr txBox="1"/>
          <p:nvPr/>
        </p:nvSpPr>
        <p:spPr>
          <a:xfrm>
            <a:off x="349200" y="304920"/>
            <a:ext cx="426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аница "Апостола"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32" name="Picture 3" descr="апостол"/>
          <p:cNvPicPr/>
          <p:nvPr/>
        </p:nvPicPr>
        <p:blipFill>
          <a:blip r:embed="rId3"/>
          <a:stretch/>
        </p:blipFill>
        <p:spPr>
          <a:xfrm>
            <a:off x="304920" y="1523880"/>
            <a:ext cx="3238560" cy="511344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5" descr="азбука"/>
          <p:cNvPicPr/>
          <p:nvPr/>
        </p:nvPicPr>
        <p:blipFill>
          <a:blip r:embed="rId4"/>
          <a:stretch/>
        </p:blipFill>
        <p:spPr>
          <a:xfrm>
            <a:off x="3657600" y="2438280"/>
            <a:ext cx="5181480" cy="4213440"/>
          </a:xfrm>
          <a:prstGeom prst="rect">
            <a:avLst/>
          </a:prstGeom>
          <a:ln w="0">
            <a:noFill/>
          </a:ln>
        </p:spPr>
      </p:pic>
      <p:sp>
        <p:nvSpPr>
          <p:cNvPr id="634" name="WordArt 6"/>
          <p:cNvSpPr txBox="1"/>
          <p:nvPr/>
        </p:nvSpPr>
        <p:spPr>
          <a:xfrm>
            <a:off x="4343400" y="144792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аницы "Азбуки"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Задание на дом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о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я № 34, 37 в рабочей тетрад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полнительно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нать об отдыхе и труде основных слоев населения Московского государства в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VI-XVII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к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7" descr="andrei_rublev"/>
          <p:cNvPicPr/>
          <p:nvPr/>
        </p:nvPicPr>
        <p:blipFill>
          <a:blip r:embed="rId1"/>
          <a:stretch/>
        </p:blipFill>
        <p:spPr>
          <a:xfrm>
            <a:off x="420840" y="189000"/>
            <a:ext cx="3522600" cy="4419360"/>
          </a:xfrm>
          <a:prstGeom prst="rect">
            <a:avLst/>
          </a:prstGeom>
          <a:ln w="0">
            <a:noFill/>
          </a:ln>
        </p:spPr>
      </p:pic>
      <p:sp>
        <p:nvSpPr>
          <p:cNvPr id="593" name="WordArt 8"/>
          <p:cNvSpPr txBox="1"/>
          <p:nvPr/>
        </p:nvSpPr>
        <p:spPr>
          <a:xfrm>
            <a:off x="228600" y="4724280"/>
            <a:ext cx="417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Андрей Рублёв</a:t>
            </a:r>
            <a:endParaRPr b="1" lang="en-US" sz="1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990720" y="5486400"/>
            <a:ext cx="2438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сский живописе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Picture 3" descr="8_1"/>
          <p:cNvPicPr/>
          <p:nvPr/>
        </p:nvPicPr>
        <p:blipFill>
          <a:blip r:embed="rId4"/>
          <a:stretch/>
        </p:blipFill>
        <p:spPr>
          <a:xfrm>
            <a:off x="4840200" y="2243160"/>
            <a:ext cx="3511800" cy="4352760"/>
          </a:xfrm>
          <a:prstGeom prst="rect">
            <a:avLst/>
          </a:prstGeom>
          <a:ln w="0">
            <a:noFill/>
          </a:ln>
        </p:spPr>
      </p:pic>
      <p:sp>
        <p:nvSpPr>
          <p:cNvPr id="596" name="WordArt 2"/>
          <p:cNvSpPr txBox="1"/>
          <p:nvPr/>
        </p:nvSpPr>
        <p:spPr>
          <a:xfrm>
            <a:off x="4419720" y="91440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кона "Троица"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WordArt 2"/>
          <p:cNvSpPr txBox="1"/>
          <p:nvPr/>
        </p:nvSpPr>
        <p:spPr>
          <a:xfrm>
            <a:off x="4572000" y="1066680"/>
            <a:ext cx="4572000" cy="109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ергий Радонежский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98" name="Picture 3" descr="file23at26"/>
          <p:cNvPicPr/>
          <p:nvPr/>
        </p:nvPicPr>
        <p:blipFill>
          <a:blip r:embed="rId3"/>
          <a:stretch/>
        </p:blipFill>
        <p:spPr>
          <a:xfrm>
            <a:off x="228600" y="762120"/>
            <a:ext cx="4357800" cy="521964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4"/>
          <p:cNvSpPr/>
          <p:nvPr/>
        </p:nvSpPr>
        <p:spPr>
          <a:xfrm>
            <a:off x="5029200" y="2590920"/>
            <a:ext cx="370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атель и настоятель Троице-Сергиева монастыр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WordArt 2"/>
          <p:cNvSpPr txBox="1"/>
          <p:nvPr/>
        </p:nvSpPr>
        <p:spPr>
          <a:xfrm>
            <a:off x="0" y="533520"/>
            <a:ext cx="5029200" cy="124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Дмитрий Донской</a:t>
            </a:r>
            <a:endParaRPr b="1" lang="en-US" sz="16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304920" y="2438280"/>
            <a:ext cx="4356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ий князь Московский и Владимирский, сын Ивана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Picture 5" descr=""/>
          <p:cNvPicPr/>
          <p:nvPr/>
        </p:nvPicPr>
        <p:blipFill>
          <a:blip r:embed="rId3"/>
          <a:stretch/>
        </p:blipFill>
        <p:spPr>
          <a:xfrm>
            <a:off x="5029200" y="609480"/>
            <a:ext cx="37656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WordArt 2"/>
          <p:cNvSpPr txBox="1"/>
          <p:nvPr/>
        </p:nvSpPr>
        <p:spPr>
          <a:xfrm>
            <a:off x="152280" y="457200"/>
            <a:ext cx="883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ван III Васильевич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4" name="Picture 3" descr="ioann3Russ_001"/>
          <p:cNvPicPr/>
          <p:nvPr/>
        </p:nvPicPr>
        <p:blipFill>
          <a:blip r:embed="rId3"/>
          <a:stretch/>
        </p:blipFill>
        <p:spPr>
          <a:xfrm>
            <a:off x="304920" y="1371600"/>
            <a:ext cx="4400280" cy="489600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4"/>
          <p:cNvSpPr/>
          <p:nvPr/>
        </p:nvSpPr>
        <p:spPr>
          <a:xfrm>
            <a:off x="4788000" y="1700280"/>
            <a:ext cx="435600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ий князь Московский, сын Василия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нем сложилось единое Российское государство, было свергнуто монголо-татарское иго</a:t>
            </a:r>
            <a:r>
              <a:rPr b="1" lang="ru-RU" sz="3200" spc="-1" strike="noStrike">
                <a:solidFill>
                  <a:srgbClr val="ffffff"/>
                </a:solidFill>
                <a:latin typeface="CyrillicGoth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WordArt 2"/>
          <p:cNvSpPr txBox="1"/>
          <p:nvPr/>
        </p:nvSpPr>
        <p:spPr>
          <a:xfrm>
            <a:off x="5562720" y="457200"/>
            <a:ext cx="33382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ская изба</a:t>
            </a:r>
            <a:endParaRPr b="1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внутри </a:t>
            </a:r>
            <a:endParaRPr b="1" lang="en-US" sz="4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7" name="Picture 4" descr="home"/>
          <p:cNvPicPr/>
          <p:nvPr/>
        </p:nvPicPr>
        <p:blipFill>
          <a:blip r:embed="rId5"/>
          <a:srcRect l="0" t="0" r="0" b="1058"/>
          <a:stretch/>
        </p:blipFill>
        <p:spPr>
          <a:xfrm>
            <a:off x="228600" y="228600"/>
            <a:ext cx="5197320" cy="32767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3" descr="alapaevsk9"/>
          <p:cNvPicPr/>
          <p:nvPr/>
        </p:nvPicPr>
        <p:blipFill>
          <a:blip r:embed="rId6"/>
          <a:stretch/>
        </p:blipFill>
        <p:spPr>
          <a:xfrm>
            <a:off x="3886200" y="3276720"/>
            <a:ext cx="5033880" cy="332244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6"/>
          <p:cNvSpPr/>
          <p:nvPr/>
        </p:nvSpPr>
        <p:spPr>
          <a:xfrm>
            <a:off x="0" y="6250320"/>
            <a:ext cx="396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Рассмотрите избу, её убранство.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Опишите, как выглядит изба внутр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" descr="08220214"/>
          <p:cNvPicPr/>
          <p:nvPr/>
        </p:nvPicPr>
        <p:blipFill>
          <a:blip r:embed="rId1"/>
          <a:stretch/>
        </p:blipFill>
        <p:spPr>
          <a:xfrm>
            <a:off x="228600" y="228600"/>
            <a:ext cx="4626000" cy="3467160"/>
          </a:xfrm>
          <a:prstGeom prst="rect">
            <a:avLst/>
          </a:prstGeom>
          <a:ln w="0">
            <a:noFill/>
          </a:ln>
        </p:spPr>
      </p:pic>
      <p:sp>
        <p:nvSpPr>
          <p:cNvPr id="611" name="WordArt 3"/>
          <p:cNvSpPr txBox="1"/>
          <p:nvPr/>
        </p:nvSpPr>
        <p:spPr>
          <a:xfrm>
            <a:off x="4967280" y="762120"/>
            <a:ext cx="4176720" cy="16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ская изба </a:t>
            </a:r>
            <a:endParaRPr b="1" lang="en-US" sz="1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2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наружи</a:t>
            </a:r>
            <a:endParaRPr b="1" lang="en-US" sz="12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2" name="Picture 4" descr="kizhi6"/>
          <p:cNvPicPr/>
          <p:nvPr/>
        </p:nvPicPr>
        <p:blipFill>
          <a:blip r:embed="rId7"/>
          <a:srcRect l="0" t="0" r="14724" b="15039"/>
          <a:stretch/>
        </p:blipFill>
        <p:spPr>
          <a:xfrm>
            <a:off x="3505320" y="3048120"/>
            <a:ext cx="541008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9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18c7b"/>
                </a:solidFill>
                <a:latin typeface="Arial Rounded MT Bold"/>
              </a:rPr>
              <a:t>Люди Московского государства славились своим трудолюбием, мастерством и мудростью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1080" y="6445080"/>
            <a:ext cx="50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А что за люди тогда жили?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формулируйте тему уро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512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4a"/>
                </a:solidFill>
                <a:latin typeface="Monotype Corsiva"/>
              </a:rPr>
              <a:t>Земля и люди </a:t>
            </a:r>
            <a:br>
              <a:rPr sz="8800"/>
            </a:br>
            <a:r>
              <a:rPr b="1" lang="ru-RU" sz="8800" spc="-1" strike="noStrike">
                <a:solidFill>
                  <a:srgbClr val="ffff4a"/>
                </a:solidFill>
                <a:latin typeface="Monotype Corsiva"/>
              </a:rPr>
              <a:t>Московского государства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4:09:24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